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29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7.png" ContentType="image/png"/>
  <Override PartName="/ppt/media/image12.wmf" ContentType="image/x-wmf"/>
  <Override PartName="/ppt/media/image4.png" ContentType="image/png"/>
  <Override PartName="/ppt/media/image6.jpeg" ContentType="image/jpeg"/>
  <Override PartName="/ppt/media/image10.png" ContentType="image/png"/>
  <Override PartName="/ppt/media/image28.wmf" ContentType="image/x-wmf"/>
  <Override PartName="/ppt/media/image3.png" ContentType="image/png"/>
  <Override PartName="/ppt/media/image2.png" ContentType="image/png"/>
  <Override PartName="/ppt/media/image1.png" ContentType="image/png"/>
  <Override PartName="/ppt/media/image14.wmf" ContentType="image/x-wmf"/>
  <Override PartName="/ppt/media/image27.wmf" ContentType="image/x-wmf"/>
  <Override PartName="/ppt/media/image26.wmf" ContentType="image/x-wmf"/>
  <Override PartName="/ppt/media/image15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7FEEC-A5DD-4B2F-BC64-35B82BD83B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D8CA2-B551-4CC6-B093-C6FE7917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5C414-B3D5-429A-8E6D-62424A83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7CA7B-664B-4C0E-A958-24E3636CBF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712CE-57EA-47FB-8BFA-F30098FD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B20A3-6517-4C25-8D55-6A9CD9D7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97AFC-E779-4EFA-8441-10E4D6E5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DFE4B-54D9-4F4A-8040-C20F7116F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2A054-0920-4FF8-8C7A-3E11B7317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4438A-31B3-4BE7-9286-B6E82157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CD948-998C-4CA2-9DE2-9C40F2EA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8A77E-8B62-4464-B8D5-D537840D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4D9E-203E-4DB5-B563-9EDB002FAEE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920" y="2276640"/>
            <a:ext cx="590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医院内感染的预防与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13880" y="1341000"/>
            <a:ext cx="767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医院内感染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根据感染发生的部位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、泌尿道、消化道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根据病原体的种类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感染、病毒感染、真菌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55280" y="1341000"/>
            <a:ext cx="64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医院内感染预防与控制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建立和完善管理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健全各项规章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建立完善的监控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医院内感染发生的有效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加强医院内感染知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71280" y="227772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清洁、消毒、灭菌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9640" y="1289160"/>
            <a:ext cx="8136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清洁    用物理方法清除污染物体表面的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物、污迹、尘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消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用物理、化学、生物的方法杀灭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除环境中的病原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灭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可杀灭或者消除传播媒介上的一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微生物，包括致病微生物和非致病微生物，也包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芽胞和真菌孢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755640" y="134100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消毒灭菌的种类和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自然净化消毒法    如日光暴晒、通风换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机械除菌    如冲洗、擦、通风、过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※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然通风是最方便、经济、有效的消毒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热力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干热法和湿热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71388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热空气加热（干烤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不宜损坏、不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变质、不蒸发的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80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5" descr="r_2008311103928277"/>
          <p:cNvPicPr/>
          <p:nvPr/>
        </p:nvPicPr>
        <p:blipFill>
          <a:blip r:embed="rId1"/>
          <a:srcRect l="12775" t="5131" r="8438" b="20306"/>
          <a:stretch/>
        </p:blipFill>
        <p:spPr>
          <a:xfrm>
            <a:off x="4932360" y="3284640"/>
            <a:ext cx="4032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11280" y="1341000"/>
            <a:ext cx="792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前物品须彻底清洗干净，并干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箱温降至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下开箱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裹不宜过大，不超过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cm×10cm×20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油剂和粉剂厚度不宜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3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载量不超过柜室容积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/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84000" y="134100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焚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污染的废弃物、病理标本、脓性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等的处理，如破伤风梭菌、产气荚膜梭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培养用的器皿开启和闭合瓶口处的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，或紧急情况下消毒金属器械、搪瓷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55640" y="12679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湿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压力蒸汽灭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最安全、最便宜、最有效、最方便和最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排放冷空气的方式和程度的不同，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和下排气式两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压力蒸汽灭菌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1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排气式压力蒸汽灭菌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32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5" descr="Image68"/>
          <p:cNvPicPr/>
          <p:nvPr/>
        </p:nvPicPr>
        <p:blipFill>
          <a:blip r:embed="rId1">
            <a:lum contrast="30000"/>
          </a:blip>
          <a:srcRect l="3826" t="6543" r="2516" b="0"/>
          <a:stretch/>
        </p:blipFill>
        <p:spPr>
          <a:xfrm>
            <a:off x="5508720" y="1916280"/>
            <a:ext cx="33829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10920" y="1844280"/>
            <a:ext cx="7993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释：医院内感染、清洁、消毒、灭菌、无菌技术、隔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出消毒、灭菌的种类、方法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叙述无菌技术和隔离技术的原则、操作过程中的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出常见隔离的种类及隔离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前物品应彻底清洁干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积大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排气式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cm×30cm×25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式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cm×30cm×50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载量不得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后物品处理：放置、记录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煮沸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耐热、耐湿的玻璃、金属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细菌：水沸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~1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芽胞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破伤风梭菌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肉毒杆菌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757080" y="126792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前：物品洗净、轴节打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橡胶物品、锐器须包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腔内注水、针筒拆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面高度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5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中：水沸计时、加物重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锅加盖、织品搅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后：无菌取物、及时取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出即用、勿泡水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巴斯德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呼吸和麻醉设备的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835280" y="2852640"/>
          <a:ext cx="5064120" cy="1368360"/>
        </p:xfrm>
        <a:graphic>
          <a:graphicData uri="http://schemas.openxmlformats.org/drawingml/2006/table">
            <a:tbl>
              <a:tblPr/>
              <a:tblGrid>
                <a:gridCol w="1687320"/>
                <a:gridCol w="1689120"/>
                <a:gridCol w="168768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灭菌温度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5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 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灭菌时间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min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5min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辐射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用紫外线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波紫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最强波段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7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宜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40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宜湿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%~6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紫外线强度：不低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µW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㎝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灯清洁，酒精擦拭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直射患者，以免损伤皮肤和眼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照射时间不少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温度低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 ℃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高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 ℃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相对湿度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时应适当延长照射时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开灯照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钟后</a:t>
            </a:r>
            <a:r>
              <a:rPr b="1" lang="zh-CN" sz="2800" spc="-1" strike="noStrike">
                <a:solidFill>
                  <a:srgbClr val="000000"/>
                </a:solidFill>
                <a:latin typeface="MingLiU-ExtB"/>
                <a:ea typeface="宋体"/>
              </a:rPr>
              <a:t>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µW/cm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期检测，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校定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辐射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电离辐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理：干扰微生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成，破坏细胞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起酶系统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点：穿透力强、灭菌快、效果可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点：费用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不耐高温的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想化学消毒剂应具备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广谱性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稳定性高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毒、无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溶性和物品匹配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具有残留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济性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化学消毒剂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擦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浸泡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熏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喷雾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76" name="Object 5"/>
          <p:cNvGraphicFramePr/>
          <p:nvPr/>
        </p:nvGraphicFramePr>
        <p:xfrm>
          <a:off x="4067280" y="2637000"/>
          <a:ext cx="446400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637000"/>
                    <a:ext cx="44640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Line 6"/>
          <p:cNvSpPr/>
          <p:nvPr/>
        </p:nvSpPr>
        <p:spPr>
          <a:xfrm>
            <a:off x="2556000" y="3573360"/>
            <a:ext cx="1224000" cy="0"/>
          </a:xfrm>
          <a:prstGeom prst="line">
            <a:avLst/>
          </a:prstGeom>
          <a:ln w="38160">
            <a:solidFill>
              <a:srgbClr val="046ca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使用原则和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合适的消毒剂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消毒剂的浓度、浸泡时间、使用方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须先清洁、擦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须浸没于溶液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挥发性消毒液须加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前须无菌蒸馏水冲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71280" y="227772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化学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水平消毒剂：戊二醛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甲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福尔马林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环氧乙烷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过氧乙酸、过氧化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水平消毒剂：含氯消毒剂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乙醇、碘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水平消毒剂：氯己定（洗必泰）、甲酚（煤酚皂溶液，来苏儿）、苯扎溴铵（新洁尔灭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755640" y="11966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消毒、灭菌基本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医用物品对人体的危险性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手术器械、穿刺针、腹腔镜、透析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呼吸机管道、气管镜、体温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餐具、便器、听诊器、血压计袖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757080" y="1341000"/>
            <a:ext cx="8158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选择消毒、灭菌方法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物品污染后的危害程度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度危险性物品：必须灭菌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危险性物品：达到消毒即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度危险性物品：低水平消毒或清洁处理即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物品上污染微生物种类、数量和危害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水平消毒或灭菌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细菌芽胞、真菌孢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水平以上的消毒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真菌、支原体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、低水平消毒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一般细菌和亲脂病毒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消毒物品的性质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耐高温、耐湿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首选压力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耐热、不耐湿、贵重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氧乙烷或低温蒸汽甲醛气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器械浸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用对金属无腐蚀性的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卫生部门批准的消毒剂和器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消毒、灭菌基本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患者用过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先清洗再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甲类传染病患者、艾滋病、结核等患者污染的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先消毒再清洗，再按物品危险性选择合理消毒、灭菌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消毒工作中的个人防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热力灭菌    防止燃烧、爆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紫外线、微波消毒    避免直接照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气体化学消毒剂    防止泄露、燃烧、爆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液体化学消毒剂    防止过敏、损伤皮肤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处理锐利器械和用具    避免刺、割等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洗手与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手术前后、诊疗前后、诊疗过程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手清洁、消毒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卫生手消毒    在普通洗手基础上，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5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涂擦双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"/>
          <p:cNvPicPr/>
          <p:nvPr/>
        </p:nvPicPr>
        <p:blipFill>
          <a:blip r:embed="rId1"/>
          <a:srcRect l="4087" t="5512" r="0" b="9499"/>
          <a:stretch/>
        </p:blipFill>
        <p:spPr>
          <a:xfrm>
            <a:off x="2700360" y="2819520"/>
            <a:ext cx="6039000" cy="3476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常用手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醋酸氯己定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乙醇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异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756720" y="1341000"/>
            <a:ext cx="80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医院清洁、消毒、灭菌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医院日常的清洁、消毒、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室内空气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层流洁净病房和手术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方法：只能采用层流通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普通手术室、产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方法：紫外线消毒、吸附式空气消毒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26560" y="2133360"/>
            <a:ext cx="77058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世界卫生组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指出，有效控制医院内感染的关键措施是：清洁、消毒、灭菌、无菌技术、隔离、合理使用抗生素、监测和通过监测进行效果评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儿科病房、检查室、注射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气消毒方法：臭氧消毒、紫外线消毒、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剂喷雾或熏蒸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可采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中的空气消毒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草药消毒剂喷雾等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环境表面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面消毒    无明显污染，可用湿式清扫；受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原微生物污染，应用消毒液湿拖擦洗或喷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墙面消毒    通常不需常规消毒；如受到病原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污染，可用化学消毒剂喷雾或擦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表面消毒    采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中的空气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或中草药消毒剂喷雾等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服类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棉织品    洗涤后高温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毯子、棉胎等    日光暴晒或紫外线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患者的被服应与普通患者的被服分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洗和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衣被应单独洗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服、值班室被服应与患者被服分开清洗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医院污物的消毒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物分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规定，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物的收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黑色袋：生活垃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黄色袋：医用垃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标记污物袋：焚烧、放射性废弃物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锐器应置入锐器收集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次性注射器、输液器等使用后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就地消毒毁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专用收集袋或容器进行收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专人负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指定单位定点回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建立定点回收制度，专人负责定点回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28360" y="314136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三节      无菌技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无菌技术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技术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techniqu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在执行医疗护理操作过程中，防止一切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侵入机体和防止无菌物品、无菌区域被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物品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supplie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过物理或化学方法灭菌后保持无菌状态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are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过灭菌处理后未被污染的区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无菌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on-aseptic are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未经灭菌处理或经灭菌处理后又被污染的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对无菌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区边缘向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相对无菌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无菌技术的操作原则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环境：清洁、宽敞；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无人打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务人员：衣帽整洁，戴帽子口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放置合理、有序，标志明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包外标签、有效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时无菌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套无菌物品仅供一位患者使用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0" descr=""/>
          <p:cNvPicPr/>
          <p:nvPr/>
        </p:nvPicPr>
        <p:blipFill>
          <a:blip r:embed="rId1"/>
          <a:stretch/>
        </p:blipFill>
        <p:spPr>
          <a:xfrm rot="3160800">
            <a:off x="6446520" y="3138480"/>
            <a:ext cx="1362240" cy="2232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常用无菌技术的操作方法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无菌持物钳（镊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卵圆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叉钳                                     镊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4" name="Picture 8" descr=""/>
          <p:cNvPicPr/>
          <p:nvPr/>
        </p:nvPicPr>
        <p:blipFill>
          <a:blip r:embed="rId2"/>
          <a:stretch/>
        </p:blipFill>
        <p:spPr>
          <a:xfrm rot="4280400">
            <a:off x="3055680" y="2352600"/>
            <a:ext cx="1376280" cy="2808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"/>
          <p:cNvPicPr/>
          <p:nvPr/>
        </p:nvPicPr>
        <p:blipFill>
          <a:blip r:embed="rId3"/>
          <a:stretch/>
        </p:blipFill>
        <p:spPr>
          <a:xfrm>
            <a:off x="2411280" y="5084640"/>
            <a:ext cx="280836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9640" y="1341000"/>
            <a:ext cx="80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医院内感染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医院内获得性感染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ospital-acquired infection, HA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住院患者在医院内获得的感染，包括在住院期间发生的感染和在医院内获得于出院后发生的感染，但不包括入院前已开始或入院时已处于潜伏期的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存放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湿式保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面浸没轴节以上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镊子长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每个容器只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放置一把无菌持物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式保存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集中治疗前开包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更换一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8" name="Picture 8" descr=""/>
          <p:cNvPicPr/>
          <p:nvPr/>
        </p:nvPicPr>
        <p:blipFill>
          <a:blip r:embed="rId1"/>
          <a:stretch/>
        </p:blipFill>
        <p:spPr>
          <a:xfrm>
            <a:off x="6516720" y="1341360"/>
            <a:ext cx="195912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持物钳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1" name="Picture 6" descr=""/>
          <p:cNvPicPr/>
          <p:nvPr/>
        </p:nvPicPr>
        <p:blipFill>
          <a:blip r:embed="rId1"/>
          <a:srcRect l="4122" t="0" r="0" b="0"/>
          <a:stretch/>
        </p:blipFill>
        <p:spPr>
          <a:xfrm>
            <a:off x="1835280" y="1989000"/>
            <a:ext cx="58910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放过程中钳端闭合，不可以触及溶液面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部分或容器口边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过程中始终保持钳端向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毕立即放回容器内，并将钳端打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远处取物应同时移动浸泡容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只用于夹取无菌物品，不可用于夹取油纱布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换药或消毒皮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无菌容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开关无菌容器                       手持无菌容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Picture 8" descr=""/>
          <p:cNvPicPr/>
          <p:nvPr/>
        </p:nvPicPr>
        <p:blipFill>
          <a:blip r:embed="rId1"/>
          <a:srcRect l="0" t="52802" r="0" b="9271"/>
          <a:stretch/>
        </p:blipFill>
        <p:spPr>
          <a:xfrm>
            <a:off x="4643280" y="2997360"/>
            <a:ext cx="4149720" cy="2304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"/>
          <p:cNvPicPr/>
          <p:nvPr/>
        </p:nvPicPr>
        <p:blipFill>
          <a:blip r:embed="rId2"/>
          <a:srcRect l="0" t="0" r="0" b="57712"/>
          <a:stretch/>
        </p:blipFill>
        <p:spPr>
          <a:xfrm>
            <a:off x="611280" y="2852640"/>
            <a:ext cx="40100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盖子的无菌面朝上，置于稳妥处；或无菌面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拿在手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物时不得触及容器边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拖住容器底部，手指不得触及容器边缘和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定期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取用无菌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冲瓶口                             倾倒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2" name="Picture 7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2880000" cy="2627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"/>
          <p:cNvPicPr/>
          <p:nvPr/>
        </p:nvPicPr>
        <p:blipFill>
          <a:blip r:embed="rId2"/>
          <a:stretch/>
        </p:blipFill>
        <p:spPr>
          <a:xfrm>
            <a:off x="5003640" y="2924280"/>
            <a:ext cx="31719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真核对药名、浓度、有效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溶液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可将敷料放入无菌溶液瓶内蘸取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已倒出的液体不可再倒回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已打开过的溶液瓶如未污染最多可保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无菌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扎无菌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8" name="Picture 7" descr=""/>
          <p:cNvPicPr/>
          <p:nvPr/>
        </p:nvPicPr>
        <p:blipFill>
          <a:blip r:embed="rId1"/>
          <a:srcRect l="985" t="3586" r="2692" b="3551"/>
          <a:stretch/>
        </p:blipFill>
        <p:spPr>
          <a:xfrm>
            <a:off x="1763640" y="2565360"/>
            <a:ext cx="6048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0" descr=""/>
          <p:cNvPicPr/>
          <p:nvPr/>
        </p:nvPicPr>
        <p:blipFill>
          <a:blip r:embed="rId1"/>
          <a:srcRect l="31954" t="3586" r="35941" b="63618"/>
          <a:stretch/>
        </p:blipFill>
        <p:spPr>
          <a:xfrm>
            <a:off x="5003640" y="4437000"/>
            <a:ext cx="2376720" cy="1728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"/>
          <p:cNvPicPr/>
          <p:nvPr/>
        </p:nvPicPr>
        <p:blipFill>
          <a:blip r:embed="rId2"/>
          <a:srcRect l="68643" t="54576" r="2692" b="10818"/>
          <a:stretch/>
        </p:blipFill>
        <p:spPr>
          <a:xfrm>
            <a:off x="1546200" y="1989000"/>
            <a:ext cx="2449440" cy="1862280"/>
          </a:xfrm>
          <a:prstGeom prst="rect">
            <a:avLst/>
          </a:prstGeom>
          <a:ln w="0">
            <a:noFill/>
          </a:ln>
        </p:spPr>
      </p:pic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2" name="Picture 9" descr=""/>
          <p:cNvPicPr/>
          <p:nvPr/>
        </p:nvPicPr>
        <p:blipFill>
          <a:blip r:embed="rId3"/>
          <a:srcRect l="66364" t="3586" r="2692" b="61815"/>
          <a:stretch/>
        </p:blipFill>
        <p:spPr>
          <a:xfrm>
            <a:off x="1476360" y="4246560"/>
            <a:ext cx="2519280" cy="1774800"/>
          </a:xfrm>
          <a:prstGeom prst="rect">
            <a:avLst/>
          </a:prstGeom>
          <a:ln w="0">
            <a:noFill/>
          </a:ln>
        </p:spPr>
      </p:pic>
      <p:sp>
        <p:nvSpPr>
          <p:cNvPr id="253" name="内容占位符 2"/>
          <p:cNvSpPr/>
          <p:nvPr/>
        </p:nvSpPr>
        <p:spPr>
          <a:xfrm>
            <a:off x="755640" y="1413000"/>
            <a:ext cx="7846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打开无菌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2413080" y="3753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22"/>
          <p:cNvSpPr/>
          <p:nvPr/>
        </p:nvSpPr>
        <p:spPr>
          <a:xfrm>
            <a:off x="2414520" y="59119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23"/>
          <p:cNvSpPr/>
          <p:nvPr/>
        </p:nvSpPr>
        <p:spPr>
          <a:xfrm>
            <a:off x="6156360" y="5985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7" name="Picture 24" descr=""/>
          <p:cNvPicPr/>
          <p:nvPr/>
        </p:nvPicPr>
        <p:blipFill>
          <a:blip r:embed="rId4"/>
          <a:srcRect l="6725" t="54576" r="70350" b="10818"/>
          <a:stretch/>
        </p:blipFill>
        <p:spPr>
          <a:xfrm>
            <a:off x="5219640" y="1916280"/>
            <a:ext cx="2087640" cy="198432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25"/>
          <p:cNvSpPr/>
          <p:nvPr/>
        </p:nvSpPr>
        <p:spPr>
          <a:xfrm>
            <a:off x="6086520" y="3753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出无菌包时应先检查名称、灭菌日期、报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燥和完好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开包、关包时手只能接触包布死角外面，不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触及包布内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过程中不可跨越无菌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内用物未一次用完，则按原折痕包好，并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明开包日期及时间，可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4000" y="1341000"/>
            <a:ext cx="8250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医院内感染发生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个体抵抗力下降、免疫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侵入性诊疗机会增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抗生素滥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医院管理机制不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铺无菌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折叠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纵折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纵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，再横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，开口向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横折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横折后再纵折，然后再重复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1" descr=""/>
          <p:cNvPicPr/>
          <p:nvPr/>
        </p:nvPicPr>
        <p:blipFill>
          <a:blip r:embed="rId1"/>
          <a:srcRect l="0" t="8947" r="0" b="0"/>
          <a:stretch/>
        </p:blipFill>
        <p:spPr>
          <a:xfrm>
            <a:off x="4140360" y="3933720"/>
            <a:ext cx="3960720" cy="2484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铺无菌盘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单层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近到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侧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远及近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再由近及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10" descr=""/>
          <p:cNvPicPr/>
          <p:nvPr/>
        </p:nvPicPr>
        <p:blipFill>
          <a:blip r:embed="rId2"/>
          <a:stretch/>
        </p:blipFill>
        <p:spPr>
          <a:xfrm>
            <a:off x="4427640" y="1557360"/>
            <a:ext cx="36288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铺无菌盘的区域必须清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无菌巾潮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覆盖无菌巾时，应注意边缘对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面不可触及衣袖和其他非无菌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盘不宜放置过久，有效期不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六）戴无菌手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放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2411280" y="2781360"/>
            <a:ext cx="45100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取戴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次取戴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1"/>
          <a:srcRect l="52472" t="0" r="22404" b="0"/>
          <a:stretch/>
        </p:blipFill>
        <p:spPr>
          <a:xfrm>
            <a:off x="6012000" y="3068640"/>
            <a:ext cx="2592360" cy="2577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/>
          <p:cNvPicPr/>
          <p:nvPr/>
        </p:nvPicPr>
        <p:blipFill>
          <a:blip r:embed="rId2"/>
          <a:srcRect l="0" t="0" r="51493" b="0"/>
          <a:stretch/>
        </p:blipFill>
        <p:spPr>
          <a:xfrm>
            <a:off x="755640" y="3068640"/>
            <a:ext cx="4726080" cy="25779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"/>
          <p:cNvPicPr/>
          <p:nvPr/>
        </p:nvPicPr>
        <p:blipFill>
          <a:blip r:embed="rId3"/>
          <a:srcRect l="52472" t="0" r="22404" b="0"/>
          <a:stretch/>
        </p:blipFill>
        <p:spPr>
          <a:xfrm>
            <a:off x="6012000" y="2852640"/>
            <a:ext cx="2592360" cy="2881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"/>
          <p:cNvPicPr/>
          <p:nvPr/>
        </p:nvPicPr>
        <p:blipFill>
          <a:blip r:embed="rId4"/>
          <a:srcRect l="0" t="0" r="51493" b="0"/>
          <a:stretch/>
        </p:blipFill>
        <p:spPr>
          <a:xfrm>
            <a:off x="755640" y="2852640"/>
            <a:ext cx="4726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取戴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次性取戴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7" name="Picture 5" descr=""/>
          <p:cNvPicPr/>
          <p:nvPr/>
        </p:nvPicPr>
        <p:blipFill>
          <a:blip r:embed="rId1"/>
          <a:stretch/>
        </p:blipFill>
        <p:spPr>
          <a:xfrm>
            <a:off x="611280" y="2852640"/>
            <a:ext cx="81360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戴手套前先洗手并擦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核对手套型号和灭菌日期，保证无菌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涂滑石粉时，应避开手套袋上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戴手套后双手保持腰部或操作台面以上视线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围内的水平；若手套有破裂，应立即更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手套时应翻转脱下，避免强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28360" y="314136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四节      隔离与防护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隔离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传染源、切断传播途径、保护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隔离区域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区域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洁区：配膳食、值班室、库房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半污染区：病区走廊、检验室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染区：病室、浴室、患者洗手间等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单元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患者为单位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位患者有独立的环境与用具，进行床边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病种为单位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同种传染病可住同一病室，但应与其他病种传染病患者相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凡未确诊或发生混合感染及有强烈传染性者，应住单间隔离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4360" y="1341000"/>
            <a:ext cx="8323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医院内感染发生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感染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传播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易感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8" name="Group 7"/>
          <p:cNvGrpSpPr/>
          <p:nvPr/>
        </p:nvGrpSpPr>
        <p:grpSpPr>
          <a:xfrm>
            <a:off x="5003640" y="2708280"/>
            <a:ext cx="1873440" cy="720720"/>
            <a:chOff x="5003640" y="2708280"/>
            <a:chExt cx="1873440" cy="720720"/>
          </a:xfrm>
        </p:grpSpPr>
        <p:sp>
          <p:nvSpPr>
            <p:cNvPr id="119" name="AutoShape 5"/>
            <p:cNvSpPr/>
            <p:nvPr/>
          </p:nvSpPr>
          <p:spPr>
            <a:xfrm>
              <a:off x="5003640" y="2708280"/>
              <a:ext cx="187344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Text Box 6"/>
            <p:cNvSpPr/>
            <p:nvPr/>
          </p:nvSpPr>
          <p:spPr>
            <a:xfrm>
              <a:off x="5292720" y="2781360"/>
              <a:ext cx="136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感染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3274920" y="4653000"/>
            <a:ext cx="1873440" cy="720720"/>
            <a:chOff x="3274920" y="4653000"/>
            <a:chExt cx="1873440" cy="720720"/>
          </a:xfrm>
        </p:grpSpPr>
        <p:sp>
          <p:nvSpPr>
            <p:cNvPr id="122" name="AutoShape 9"/>
            <p:cNvSpPr/>
            <p:nvPr/>
          </p:nvSpPr>
          <p:spPr>
            <a:xfrm>
              <a:off x="3274920" y="4653000"/>
              <a:ext cx="187344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0"/>
            <p:cNvSpPr/>
            <p:nvPr/>
          </p:nvSpPr>
          <p:spPr>
            <a:xfrm>
              <a:off x="3346560" y="4726080"/>
              <a:ext cx="172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传播途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5"/>
          <p:cNvGrpSpPr/>
          <p:nvPr/>
        </p:nvGrpSpPr>
        <p:grpSpPr>
          <a:xfrm>
            <a:off x="6802560" y="4653000"/>
            <a:ext cx="1873080" cy="720720"/>
            <a:chOff x="6802560" y="4653000"/>
            <a:chExt cx="1873080" cy="720720"/>
          </a:xfrm>
        </p:grpSpPr>
        <p:sp>
          <p:nvSpPr>
            <p:cNvPr id="125" name="AutoShape 16"/>
            <p:cNvSpPr/>
            <p:nvPr/>
          </p:nvSpPr>
          <p:spPr>
            <a:xfrm>
              <a:off x="6802560" y="4653000"/>
              <a:ext cx="187308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Text Box 17"/>
            <p:cNvSpPr/>
            <p:nvPr/>
          </p:nvSpPr>
          <p:spPr>
            <a:xfrm>
              <a:off x="6873840" y="4726080"/>
              <a:ext cx="172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易感宿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7" name="AutoShape 20"/>
          <p:cNvSpPr/>
          <p:nvPr/>
        </p:nvSpPr>
        <p:spPr>
          <a:xfrm rot="3112800">
            <a:off x="4571640" y="3357000"/>
            <a:ext cx="287280" cy="1440000"/>
          </a:xfrm>
          <a:prstGeom prst="downArrow">
            <a:avLst>
              <a:gd name="adj1" fmla="val 50000"/>
              <a:gd name="adj2" fmla="val 12531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21"/>
          <p:cNvSpPr/>
          <p:nvPr/>
        </p:nvSpPr>
        <p:spPr>
          <a:xfrm rot="16200000">
            <a:off x="5761080" y="4329000"/>
            <a:ext cx="287280" cy="1224000"/>
          </a:xfrm>
          <a:prstGeom prst="downArrow">
            <a:avLst>
              <a:gd name="adj1" fmla="val 50000"/>
              <a:gd name="adj2" fmla="val 10651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2"/>
          <p:cNvSpPr/>
          <p:nvPr/>
        </p:nvSpPr>
        <p:spPr>
          <a:xfrm rot="7609800">
            <a:off x="7019640" y="3284280"/>
            <a:ext cx="287640" cy="1440000"/>
          </a:xfrm>
          <a:prstGeom prst="downArrow">
            <a:avLst>
              <a:gd name="adj1" fmla="val 50000"/>
              <a:gd name="adj2" fmla="val 12515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隔离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标志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人员进出隔离室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室空气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类处理隔离单位内物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标本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运送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出院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隔离的种类及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密隔离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道隔离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昆虫隔离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液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性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密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经飞沫、分泌物、排泄物直接或间接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播的烈性传染病，如白喉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A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禽流感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人员接触患者时做好防护；住单间病室，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止探视与陪护；室内消毒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天；患者的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、呕吐物和排泄物应严格消毒处理；污染敷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袋，标记后焚烧处理；加强心理护理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经呼吸道分泌物引起的传染性疾病，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行性感冒、麻疹、肺结核、百日咳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患者时戴好口罩；同种疾病可安置一室；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鼻及呼吸道分泌物及其接触过的用物须消毒，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敷料应装袋标记后焚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道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患者的排泄物直接或间接污染食物或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起的传染性疾病，如甲肝、菌痢、伤寒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须做好床边隔离；做好防蝇、防蟑螂、防鼠；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应有专用食具及便器，用后消毒；粪便污物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袋后消毒或焚烧；按病种更换隔离衣；剩余的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或排泄物均应消毒处理后才能倒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直接或间接接触皮肤或黏膜破损处而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起的传染病，如破伤风、气性坏疽、炭疽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应住单间病室；接触患者时需穿隔离衣；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人员手或皮肤有破损时应避免接触患者；凡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接触过的物品均应先灭菌，再清洁、消毒、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菌；患者污染的敷料应装袋标记后焚烧处理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昆虫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昆虫传播的疾病，如乙型脑炎、疟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行性出血热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昆虫类型来确定隔离措施。如疟疾及乙型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炎应设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防蚊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设备，每日喷洒灭蚊药物；斑疹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寒患者入院时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灭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流行性出血热入院时需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浴更衣，并将其衣服煮沸或高压消毒灭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液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直接或间接接触皮肤或黏膜破损处而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起的传染病，如破伤风、气性坏疽、炭疽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同种病原体同室隔离；接触血液或体液时应戴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罩、手套，必要时戴防目镜、穿隔离衣；锐器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入有标记的锐器收集器内，严防刺破手；被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体液污染的物品立即消毒或装袋标记后焚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性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抵抗力低或易感染的患者，如早产儿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血病患者、脏器移植患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单间病室隔离；定期进行室内空气和地面消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护人员须先清洗双手、戴口罩、手套，穿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衣；呼吸道疾病或咽部带菌者应避免接触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隔离的种类及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其他隔离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物质隔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对血液和体液实施全面屏障隔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遍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医疗机构内非肠道、黏膜和不完整皮肤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露于经血传播的病原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84000" y="12679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医院内感染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根据病原体的来源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内源性感染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自身感染，是指寄居在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体内或体表的正常菌群或条件致病菌，在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功能低下时发生的感染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外源性感染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交叉感染，是指病原体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于患者体外，通过直接或间接感染途径，病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由一个人传播给另一个人而形成的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标准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为患者的血液、体液、分泌物、排泄物均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传染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双向防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建立相应隔离措施，包括接触隔离、空气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微粒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隔离技术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泡手    氯己定、碘伏或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乙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泡手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刷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械刷手方法，从指尖刷到手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只手刷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流动水冲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口罩、帽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清洁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潮湿后立即更换，更换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4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帽子   遮盖头发，勤换洗，保持清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护目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减少患者体液、血液等污染物溅到医护人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眼睛内。每次使用后清洗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5" descr=""/>
          <p:cNvPicPr/>
          <p:nvPr/>
        </p:nvPicPr>
        <p:blipFill>
          <a:blip r:embed="rId1"/>
          <a:stretch/>
        </p:blipFill>
        <p:spPr>
          <a:xfrm>
            <a:off x="1547640" y="3141720"/>
            <a:ext cx="6334200" cy="33415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避污纸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避污纸时，应从页面抓取，不可掀开撕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后弃于污物桶内，集中焚烧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3383280" y="3209760"/>
            <a:ext cx="9961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e230c"/>
                </a:solidFill>
                <a:latin typeface="Arial"/>
                <a:ea typeface="宋体"/>
              </a:rPr>
              <a:t>√</a:t>
            </a:r>
            <a:endParaRPr b="0" lang="en-US" sz="11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7482600" y="3354480"/>
            <a:ext cx="10479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e230c"/>
                </a:solidFill>
                <a:latin typeface="Arial"/>
                <a:ea typeface="宋体"/>
              </a:rPr>
              <a:t>×</a:t>
            </a:r>
            <a:endParaRPr b="0" lang="en-US" sz="117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9" descr=""/>
          <p:cNvPicPr/>
          <p:nvPr/>
        </p:nvPicPr>
        <p:blipFill>
          <a:blip r:embed="rId1"/>
          <a:srcRect l="38319" t="0" r="37305" b="17202"/>
          <a:stretch/>
        </p:blipFill>
        <p:spPr>
          <a:xfrm>
            <a:off x="6156360" y="2995560"/>
            <a:ext cx="1935000" cy="32418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穿、脱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隔离衣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衣清洁面向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0" name="Picture 8" descr=""/>
          <p:cNvPicPr/>
          <p:nvPr/>
        </p:nvPicPr>
        <p:blipFill>
          <a:blip r:embed="rId2"/>
          <a:srcRect l="0" t="0" r="78232" b="17202"/>
          <a:stretch/>
        </p:blipFill>
        <p:spPr>
          <a:xfrm>
            <a:off x="2138400" y="3141720"/>
            <a:ext cx="18572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衣袖  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领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3" name="Picture 6" descr=""/>
          <p:cNvPicPr/>
          <p:nvPr/>
        </p:nvPicPr>
        <p:blipFill>
          <a:blip r:embed="rId1"/>
          <a:srcRect l="0" t="0" r="58629" b="10896"/>
          <a:stretch/>
        </p:blipFill>
        <p:spPr>
          <a:xfrm>
            <a:off x="5867280" y="1989000"/>
            <a:ext cx="2227320" cy="3672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2"/>
          <a:srcRect l="76621" t="0" r="732" b="15334"/>
          <a:stretch/>
        </p:blipFill>
        <p:spPr>
          <a:xfrm>
            <a:off x="1735200" y="1989000"/>
            <a:ext cx="211608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袖口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将一边拉到前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Picture 10" descr=""/>
          <p:cNvPicPr/>
          <p:nvPr/>
        </p:nvPicPr>
        <p:blipFill>
          <a:blip r:embed="rId1"/>
          <a:srcRect l="7368" t="0" r="71708" b="14152"/>
          <a:stretch/>
        </p:blipFill>
        <p:spPr>
          <a:xfrm>
            <a:off x="5435640" y="2349360"/>
            <a:ext cx="2284200" cy="3384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1" descr=""/>
          <p:cNvPicPr/>
          <p:nvPr/>
        </p:nvPicPr>
        <p:blipFill>
          <a:blip r:embed="rId2"/>
          <a:srcRect l="56880" t="41851" r="-4473" b="12700"/>
          <a:stretch/>
        </p:blipFill>
        <p:spPr>
          <a:xfrm>
            <a:off x="684360" y="2924280"/>
            <a:ext cx="360036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衣边在背后对齐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腰带在背后交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1" name="Picture 7" descr=""/>
          <p:cNvPicPr/>
          <p:nvPr/>
        </p:nvPicPr>
        <p:blipFill>
          <a:blip r:embed="rId1"/>
          <a:srcRect l="42264" t="0" r="40693" b="14152"/>
          <a:stretch/>
        </p:blipFill>
        <p:spPr>
          <a:xfrm>
            <a:off x="1403280" y="2421000"/>
            <a:ext cx="1928880" cy="3456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"/>
          <p:cNvPicPr/>
          <p:nvPr/>
        </p:nvPicPr>
        <p:blipFill>
          <a:blip r:embed="rId2"/>
          <a:srcRect l="77947" t="6883" r="7337" b="12026"/>
          <a:stretch/>
        </p:blipFill>
        <p:spPr>
          <a:xfrm>
            <a:off x="6156360" y="2421000"/>
            <a:ext cx="17064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腰带系于前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7" descr=""/>
          <p:cNvPicPr/>
          <p:nvPr/>
        </p:nvPicPr>
        <p:blipFill>
          <a:blip r:embed="rId1"/>
          <a:srcRect l="0" t="0" r="0" b="11307"/>
          <a:stretch/>
        </p:blipFill>
        <p:spPr>
          <a:xfrm>
            <a:off x="3995640" y="1989000"/>
            <a:ext cx="28069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腰带、塞衣袖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洗手后解领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8" name="Picture 9" descr=""/>
          <p:cNvPicPr/>
          <p:nvPr/>
        </p:nvPicPr>
        <p:blipFill>
          <a:blip r:embed="rId1"/>
          <a:srcRect l="13470" t="6685" r="52256" b="0"/>
          <a:stretch/>
        </p:blipFill>
        <p:spPr>
          <a:xfrm>
            <a:off x="1763640" y="2854440"/>
            <a:ext cx="2016360" cy="3011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0" descr=""/>
          <p:cNvPicPr/>
          <p:nvPr/>
        </p:nvPicPr>
        <p:blipFill>
          <a:blip r:embed="rId2"/>
          <a:srcRect l="66105" t="0" r="2051" b="0"/>
          <a:stretch/>
        </p:blipFill>
        <p:spPr>
          <a:xfrm>
            <a:off x="5867280" y="2781360"/>
            <a:ext cx="187344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5"/>
          <p:cNvSpPr/>
          <p:nvPr/>
        </p:nvSpPr>
        <p:spPr>
          <a:xfrm>
            <a:off x="2843280" y="2133720"/>
            <a:ext cx="5473800" cy="3744720"/>
          </a:xfrm>
          <a:prstGeom prst="cloudCallout">
            <a:avLst>
              <a:gd name="adj1" fmla="val -65398"/>
              <a:gd name="adj2" fmla="val -50680"/>
            </a:avLst>
          </a:prstGeom>
          <a:solidFill>
            <a:srgbClr val="8ac8de">
              <a:alpha val="3000"/>
            </a:srgbClr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419640" y="3141360"/>
            <a:ext cx="36734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源性感染和外源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之间有何区别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衣袖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挂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2" name="Picture 9" descr=""/>
          <p:cNvPicPr/>
          <p:nvPr/>
        </p:nvPicPr>
        <p:blipFill>
          <a:blip r:embed="rId1"/>
          <a:srcRect l="4687" t="0" r="73488" b="0"/>
          <a:stretch/>
        </p:blipFill>
        <p:spPr>
          <a:xfrm>
            <a:off x="1258920" y="2276640"/>
            <a:ext cx="1871640" cy="3390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0" descr=""/>
          <p:cNvPicPr/>
          <p:nvPr/>
        </p:nvPicPr>
        <p:blipFill>
          <a:blip r:embed="rId2"/>
          <a:srcRect l="78120" t="0" r="0" b="0"/>
          <a:stretch/>
        </p:blipFill>
        <p:spPr>
          <a:xfrm>
            <a:off x="5508720" y="2349360"/>
            <a:ext cx="18763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穿隔离衣到清洁区取物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小合适，须全部遮盖工作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衣每天更换，若有潮湿或内面污染即更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隔离衣时，手不能触及隔离衣污染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臂保持在腰部以上，视线范围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穿的隔离衣清洁面向外翻，放入污衣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1:18:28Z</dcterms:modified>
  <cp:revision>4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